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6653CD-700B-4411-B3F3-E335FF71FA9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6E3CE2-1A84-4628-BDFF-105130549C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017F5B-3347-46A3-BA36-E7B623E8A6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6C77D7-337E-4A0C-BB62-B1355BF493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BD6F47-4E85-441A-9205-945F56E90C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D4D07F-944D-420E-885C-75EC3A58F3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F6430B-A1F5-4586-A5F2-933F01BCE2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DB96FB-66C9-4B06-909E-0E65AE4103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0893E9-0C1B-4E2C-AC91-FB03893A28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A477DF-42FC-47FD-A488-6BCF26BE5D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37A266-6B2F-45B6-874C-E218A2BCF3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6A5BDC-6E62-425C-A408-3D51672F8B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1BB96B-9D64-4637-AFDD-BEC79213FE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4D6363-FE0F-4506-9FAE-84C92ACB04B3}" type="datetime3">
              <a:rPr b="0" lang="en-US" sz="1400" spc="-1" strike="noStrike">
                <a:solidFill>
                  <a:srgbClr val="ffffff"/>
                </a:solidFill>
                <a:latin typeface="Times New Roman"/>
              </a:rPr>
              <a:t>July 29,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F51E18-E55E-424F-8CFF-E7CD5ED815E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245307D4-587E-4CEE-B054-EECC21E8697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2DCB1F7E-7827-4095-8D50-9ABAD9FD1D3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3809B762-0E18-44A5-8201-A10F6D7C2DD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00E1F885-059B-43C9-B97B-14E52784D32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8480C347-F2D1-4DF7-AC0D-4A244F01110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1ABE0219-BCB8-4084-85E1-66A012480A1B}"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903DF07C-A583-44BE-A91A-56C42BF63C6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FEFCE635-CBE0-466D-B1A4-B48E361289A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3DE7CA47-9D2D-45FF-8680-C7466808B06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70E4DAB8-F554-4DCD-A996-B600CD6F04B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604C11F7-510B-48D0-85E8-C331E99993C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18B2ABA3-DAA0-4F8C-9167-93D1D89D83A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E5C80677-B404-4039-8DBF-5298A8166DA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A9031C20-E0EA-4D0B-8382-D239ED9E2F1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