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98113"/>
        <c:axId val="1561865"/>
      </c:barChart>
      <c:catAx>
        <c:axId val="89698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1865"/>
        <c:crosses val="autoZero"/>
        <c:auto val="1"/>
        <c:lblAlgn val="ctr"/>
        <c:lblOffset val="100"/>
        <c:noMultiLvlLbl val="0"/>
      </c:catAx>
      <c:valAx>
        <c:axId val="1561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8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641-4C5D-4BAA-8523-D5B3AF93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089-BCEB-4F3A-839B-6DF8990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D7D-245D-4BA6-9DE9-32C994FB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DE9-BB13-4866-B652-5563E556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974-4AED-40A6-95D7-DAE2736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BAB-7D61-41F7-9C33-4E7F107E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338-97C5-4465-8660-4FF2F42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5B1-2037-488E-AB96-5CEADE2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DAE-7E5A-41DE-84CB-72BBA38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D95-490F-475A-9DD9-A71928B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341-4A02-49A1-AE1A-3ED1D36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3D0-3440-4F36-83E8-314A0A7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C1C60-5D17-44DC-879D-6498E396D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