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656211"/>
        <c:axId val="24140605"/>
      </c:barChart>
      <c:catAx>
        <c:axId val="126562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140605"/>
        <c:crosses val="autoZero"/>
        <c:auto val="1"/>
        <c:lblAlgn val="ctr"/>
        <c:lblOffset val="100"/>
        <c:noMultiLvlLbl val="0"/>
      </c:catAx>
      <c:valAx>
        <c:axId val="241406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6562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7E35-7000-48E6-945B-B36A217E5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5211-D193-4691-B6C3-1C976B920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995D-6D6D-49CA-8FAB-C357F644A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0456-4837-4A9E-A718-15BC108C7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B42F-151A-41FB-8BA9-B4334D7EC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E0EC-B5EC-4551-B656-ABEFEE9B3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B534-57CB-45B3-BEE4-8BD51F42F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64C6-FB11-4A3E-97EE-0E494EDA1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4D33-0753-42EB-B6F8-3861DC6A2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B02B-1252-4304-BD84-F79CFBD7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FF06-D40A-4893-A299-0280958F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C792-4BA4-4D29-AF52-4B5EFBE2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1C7392-F48C-4F7C-B817-E8108A5F0F3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