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50134"/>
        <c:axId val="44926455"/>
      </c:barChart>
      <c:catAx>
        <c:axId val="41750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26455"/>
        <c:crosses val="autoZero"/>
        <c:auto val="1"/>
        <c:lblAlgn val="ctr"/>
        <c:lblOffset val="100"/>
        <c:noMultiLvlLbl val="0"/>
      </c:catAx>
      <c:valAx>
        <c:axId val="44926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50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A51-34A5-4B26-AD0F-3CBAABE6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F5F-38F0-4CEA-B792-ECDAB7A3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8FA-745F-463A-A875-A3EE66CD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58E-41C0-4A01-87C3-97F04E0E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A4C-608E-49AA-993F-4DBA15D6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B80-B1D9-465E-9DA9-F8A047E4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0C4-0A54-4005-990F-C8496DDC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AD1-72CF-4D74-A2C3-10A4274D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3B0-B801-4AB6-83F5-F2A761A3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949-ACDE-457B-B55F-E2645059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8AF-0C72-454B-88B9-556E34A4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3B2-5DB9-46E7-9E51-74975655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393B7-9A95-4181-B51B-7924A4EDA0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