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69044"/>
        <c:axId val="3901214"/>
      </c:barChart>
      <c:catAx>
        <c:axId val="269690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1214"/>
        <c:crosses val="autoZero"/>
        <c:auto val="1"/>
        <c:lblAlgn val="ctr"/>
        <c:lblOffset val="100"/>
        <c:noMultiLvlLbl val="0"/>
      </c:catAx>
      <c:valAx>
        <c:axId val="39012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690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4C4D-5BAF-4A6C-922F-61139931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C87D-392B-4FD6-8684-D3DE0BDC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6D2C-242F-4316-82CC-3BDDADF7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C69-E0F6-495E-AFCE-7FE1F938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6B2-6F5D-4102-8265-E8E2C07D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283D-5071-4CF9-A71C-86F03D12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A7C-F5BE-472D-9946-9BE3628D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91AF-9886-47BB-A5FD-DADC7029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5F6E-29FB-4308-A95F-0E55FDC5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1EFA-F900-4141-A046-1BA67AB0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8BA-4DEE-45B4-8AB1-EFFA5076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8FEA-AB37-4AA3-82FF-EEC08B21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E4CFF-EDF4-4360-B2A7-18A3B7F5AE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