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8084CA-8D24-496B-81FD-BE4C269F26F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662C14-0D81-475C-ACB9-4B75F791ED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F7FB36-B841-4458-BA4A-BF14376203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63D6B4-97D8-4479-BD77-F0A85029BB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2A3694-A6F8-4111-B74F-EF28D48391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7E7FD1-20A1-40FB-AA1A-B4B40B8A54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9E938C-F917-4206-8694-7DF771F32A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744F5B-4374-42F9-8D80-FEB162B924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8383B2-481D-4665-8C30-D05A253BF4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958991-AB9D-4F4F-9ADE-6F53EED6D8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B4F259-287A-4D8D-A19B-23478A76F6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30A132-703E-4C67-8DAD-E3AD6430BF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694017-1155-4C0E-AE0A-C39FEB7279D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E981C5-BE76-4C36-9522-FB66D9F9916A}" type="datetime3">
              <a:rPr b="0" lang="en-US" sz="1400" spc="-1" strike="noStrike">
                <a:solidFill>
                  <a:srgbClr val="ffffff"/>
                </a:solidFill>
                <a:latin typeface="Times New Roman"/>
              </a:rPr>
              <a:t>July 28,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CA96B2-86A5-42EA-938D-D4CB393D76A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03BEB7C0-E7CC-4E23-9ADE-B981488D733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2B078C70-A5DB-43F9-A0D2-D0E07836F8F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4559E92B-7002-422D-8993-AA0D56A5D46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C367E052-EB7D-44EA-AAE7-FE249DA2887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E07AA1BB-5E21-40BD-806C-4CE91B1F988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3CCEE027-0BD9-4ACA-B8FB-AF35713A415A}"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3842998A-C59E-41E6-B294-745CE10FEFA4}"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C79AE250-56BA-4380-8CB7-D062E9642C0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6BCF0CF0-89E0-451B-9063-BEFD190E505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9A6D2D44-7F59-44EE-883B-C7708B454D9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69AC2CDB-CAE2-4130-812F-CA1F7FBD423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56501008-674B-4338-823B-2110C839AE8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BD84FA24-E2B2-4F38-9DB6-B36B5D27A04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5BDAD716-29CC-40D9-A050-3E91B668A0A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