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96726"/>
        <c:axId val="80816335"/>
      </c:barChart>
      <c:catAx>
        <c:axId val="18596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16335"/>
        <c:crosses val="autoZero"/>
        <c:auto val="1"/>
        <c:lblAlgn val="ctr"/>
        <c:lblOffset val="100"/>
        <c:noMultiLvlLbl val="0"/>
      </c:catAx>
      <c:valAx>
        <c:axId val="80816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6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9B1-45BD-43C9-9293-C5332701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7E4-8C79-40B8-BF57-8C8009E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AB1-D45E-4C8C-AF1F-1D6A9DC8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BDC-76C4-4FFF-AF43-264066DD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89E-0C05-4963-B624-A597CD3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208-E16B-4094-9BA6-27630A22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C80-A7B7-4AF0-AEBD-41E85098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53D-BB08-42F9-ACF1-44CE0422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A90-9B7E-4F4F-B796-1B30F4D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B02-709F-4CEC-903F-30A2FBC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097-3D45-42A0-A1C1-78F930B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88C-42CA-4FA0-8932-32DFC411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01552-265D-46C4-8B36-021EC0CC3B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