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332117"/>
        <c:axId val="20540069"/>
      </c:barChart>
      <c:catAx>
        <c:axId val="463321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40069"/>
        <c:crosses val="autoZero"/>
        <c:auto val="1"/>
        <c:lblAlgn val="ctr"/>
        <c:lblOffset val="100"/>
        <c:noMultiLvlLbl val="0"/>
      </c:catAx>
      <c:valAx>
        <c:axId val="20540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321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EA70-6341-43EF-A176-DDFD9936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714A-9A01-425A-80AB-3FF9077F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4383-4632-4614-8B6C-415B6200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96F-9E47-4E3A-8453-ECBC1B60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CC3-694D-47AA-9AF5-9356D0E2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F6F-E59C-43D6-AC20-E25CB9C5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3CF5-DE3F-415F-9D4A-565AB89A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FA6D-535B-419D-926C-9933FBCC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DED-215F-4309-8B02-C10D89AC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63D3-0006-4231-99B8-ECB0E1FF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DFF0-E0C7-45A3-BB22-305847AB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B1FF-C971-49EF-B853-9BFC6592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B6FDF-8A95-4924-8A7D-57C1882698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