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84552"/>
        <c:axId val="23379879"/>
      </c:barChart>
      <c:catAx>
        <c:axId val="47984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79879"/>
        <c:crosses val="autoZero"/>
        <c:auto val="1"/>
        <c:lblAlgn val="ctr"/>
        <c:lblOffset val="100"/>
        <c:noMultiLvlLbl val="0"/>
      </c:catAx>
      <c:valAx>
        <c:axId val="23379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84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F3B-E308-41A1-AC23-A4D4AC48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E34-1EAF-4609-AD72-C4BD80DF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82E-32C4-4C35-A7EC-C88B3106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852-0BF5-4EE5-AFC8-FD0AAE76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7BC-25B1-4205-8D68-296D682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066-ED66-458C-AE24-8872032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AB3-BD71-4685-8737-A47DFA4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787-296C-4B00-B70A-F90C3BF9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EF5-B6CD-4F3A-A902-966ACFE7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A77-6EED-4C2F-915A-32973884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C41-58A8-40E2-A042-AE21618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A60-A41D-43C9-8FD3-BD3EC66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4034-0592-47F1-8F8B-4644F2602A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