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85045"/>
        <c:axId val="51646388"/>
      </c:barChart>
      <c:catAx>
        <c:axId val="30185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46388"/>
        <c:crosses val="autoZero"/>
        <c:auto val="1"/>
        <c:lblAlgn val="ctr"/>
        <c:lblOffset val="100"/>
        <c:noMultiLvlLbl val="0"/>
      </c:catAx>
      <c:valAx>
        <c:axId val="51646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85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1D7-8383-43B9-B01B-4C70273E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1297-E699-461D-A5E8-61132371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7CF-73C0-4D4F-B983-1709F580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FCD-3CE0-4474-9DD8-6F9F12A0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ACB-DB54-4120-A2D3-E1BF65D7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7DF-FD53-43FD-97D2-694FA00E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EA6-2ECE-465D-AF86-41A80BEE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B63-7C28-4208-B156-64114D53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35A-8601-40CD-A316-822EA1D3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06D-5760-41E8-BB13-77B11F12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FF0-36FE-43B4-BDB4-6EEA1153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D31-5C49-4596-A617-C1E06DD1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8B10A-31EE-4E20-A6AF-2A2B1D3D9D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