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85559"/>
        <c:axId val="78121956"/>
      </c:barChart>
      <c:catAx>
        <c:axId val="11785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1956"/>
        <c:crosses val="autoZero"/>
        <c:auto val="1"/>
        <c:lblAlgn val="ctr"/>
        <c:lblOffset val="100"/>
        <c:noMultiLvlLbl val="0"/>
      </c:catAx>
      <c:valAx>
        <c:axId val="78121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5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057-9246-4455-B1AB-6122EFD1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D56-B1F6-4EF5-BC49-F9E448A9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90E-E193-4739-BC9E-6B5FF76C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8A6-EEC8-44A8-801A-DCE85CEC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B96-58D6-42C4-AEB1-A9C65FC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82-FA4A-4C02-B9F2-4E13CD5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7EC-A566-4A4B-AF9A-95C0D20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023-F383-48CC-8507-8AF0AB65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0FC-AA78-440A-B415-8EE5E98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916-D7D3-4008-9BD9-F95517A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299-AFB5-435F-A06E-C175318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510-F964-461B-9125-D948A42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B39C5-676B-4727-A626-B328D2D1DF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