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6926"/>
        <c:axId val="90120901"/>
      </c:barChart>
      <c:catAx>
        <c:axId val="7966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20901"/>
        <c:crosses val="autoZero"/>
        <c:auto val="1"/>
        <c:lblAlgn val="ctr"/>
        <c:lblOffset val="100"/>
        <c:noMultiLvlLbl val="0"/>
      </c:catAx>
      <c:valAx>
        <c:axId val="90120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6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FF4-BEE3-43FC-B440-F2F0CE29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F75-CE2E-4506-95BE-DDF176C5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E64-BCBD-4751-B6DA-8DFDE136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1C0-488B-4D59-87C5-4CAA7615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D8E-03EF-4654-B58C-582FC99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343-B394-406F-8ADA-9FE69F7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5F4-08F5-4DB2-8C4B-09D9A23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411-0F46-4924-B196-63DE77DA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7D8-1B43-480E-98BF-C4451CF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249-BA2E-4739-B58F-FF2D0F9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190-403D-4089-9EBB-4317356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225-7043-4D39-9A48-80C7803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3E99-9922-430A-AB5C-43C9D5C8F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