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7899"/>
        <c:axId val="23756819"/>
      </c:barChart>
      <c:catAx>
        <c:axId val="9777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56819"/>
        <c:crosses val="autoZero"/>
        <c:auto val="1"/>
        <c:lblAlgn val="ctr"/>
        <c:lblOffset val="100"/>
        <c:noMultiLvlLbl val="0"/>
      </c:catAx>
      <c:valAx>
        <c:axId val="23756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7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933-0A4C-48AE-8D52-0C5F0E15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35F-D85B-47BB-88EA-B82E3F91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B45-322F-4841-B631-B43DE3DC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738-2A35-45AD-8551-7EC741CA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6AC-5B86-4B66-A47B-20E28837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93D-E243-49ED-B012-4908C7AD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CF9-AC10-48DB-B10D-F5BC6630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10B-875F-4C87-8208-2C68DE0A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DD0-3D66-457F-88AD-2C360C4F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D9A-01FE-4AE2-8256-44C8A9C1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A7F-148D-49D6-B890-B84B38F9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8E1-8D1D-41D9-BBEC-1F8F4238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B3871-A2CF-4CF8-BCFE-71013ED9AD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