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05938"/>
        <c:axId val="40342286"/>
      </c:barChart>
      <c:catAx>
        <c:axId val="95205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42286"/>
        <c:crosses val="autoZero"/>
        <c:auto val="1"/>
        <c:lblAlgn val="ctr"/>
        <c:lblOffset val="100"/>
        <c:noMultiLvlLbl val="0"/>
      </c:catAx>
      <c:valAx>
        <c:axId val="40342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05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A28-8178-4087-BB5E-7254B327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071A-EB43-4389-9DA0-6C8A0BC6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F3F-A47A-4C7E-87E6-1E1459A5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377-ED73-4A45-AD07-271D1D6B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E3B-5737-4C97-BE60-C933A3D0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6A4-E928-43B0-B6B2-643BC4AF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0C3-5CA6-47F2-B198-847B47EC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71E-237C-4EEF-8E61-4E7FE296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8FF-1690-4536-83C6-329141A6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CED-BDBE-4B8C-BA07-F4407B1F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41C-6EA4-4CCC-84CC-0C3F99A5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07E-BF3D-4480-B1BC-7962916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6E58A-86A2-4C7D-8668-A5E1A4573E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