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36821"/>
        <c:axId val="27938370"/>
      </c:barChart>
      <c:catAx>
        <c:axId val="35836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38370"/>
        <c:crosses val="autoZero"/>
        <c:auto val="1"/>
        <c:lblAlgn val="ctr"/>
        <c:lblOffset val="100"/>
        <c:noMultiLvlLbl val="0"/>
      </c:catAx>
      <c:valAx>
        <c:axId val="27938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36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4205-887F-4E3D-B775-285FA745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400D-5C6C-4553-A3C7-983CD207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9FB-F6C2-4692-8B98-78CA986A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DB4-E1E3-4F10-B102-73345BA6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58D-5394-422E-9984-3DEBEC97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1CA-BA6B-45F5-B5EB-D427C609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4BE-7205-4F45-9F41-988D07FB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2D6-C015-4A55-BC04-2054881E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7CC6-4B71-41FF-98CA-0B78CCCA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9DC-93AD-4DCC-94E6-9542BA3A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ECB-D135-48D1-9714-4DC64B6E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11F-3245-4CED-B860-973CE709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5985F-D6CA-4ED5-A352-0C3104324F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