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04121"/>
        <c:axId val="34967189"/>
      </c:barChart>
      <c:catAx>
        <c:axId val="21704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67189"/>
        <c:crosses val="autoZero"/>
        <c:auto val="1"/>
        <c:lblAlgn val="ctr"/>
        <c:lblOffset val="100"/>
        <c:noMultiLvlLbl val="0"/>
      </c:catAx>
      <c:valAx>
        <c:axId val="34967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04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16B-172C-4909-9430-7BE6B619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F52-5A64-442E-827A-515777D1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0CE-5099-47BA-8BC8-235017C0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7DA-A8BB-4014-94B0-5960DC4B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890-C47E-4B02-8301-E9AD9C77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C63-024F-40BC-906A-7933F014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656-ADB7-49D7-917A-8C757FC7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A3A-37A2-4578-9918-25F14C13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26A-B688-427C-8923-AEC95C4E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635-33A7-4488-B1E9-DABBB390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09E-EB18-41F9-969B-207D71EE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7BA-558E-4F35-8493-5ABC0C49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06417-84E8-458E-8DEE-F6B68036E6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