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29530"/>
        <c:axId val="4966332"/>
      </c:barChart>
      <c:catAx>
        <c:axId val="62429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332"/>
        <c:crosses val="autoZero"/>
        <c:auto val="1"/>
        <c:lblAlgn val="ctr"/>
        <c:lblOffset val="100"/>
        <c:noMultiLvlLbl val="0"/>
      </c:catAx>
      <c:valAx>
        <c:axId val="496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9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7B-6361-4434-AD6D-3DA5747D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0BC-417F-4895-BCE2-1120B75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565-88C2-49DD-9468-4E359977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1D2-1707-4B6A-A36E-0780C3F7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4D9-4C05-4BC5-89A9-D28CD325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363-D1A4-4BD4-BB33-2346FD1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949-F7CD-4B07-89B3-28F67AC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8E6-CDD5-4210-8D43-D0170E9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45C-9D9B-4A19-A399-88E229AB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CA3-3A80-4DE5-892A-7EB612A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BAF-5733-435D-9655-84A1B5CC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8ED-A3D3-426B-B1E2-CFF39EE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1623-288E-4C0B-95B3-4553A41C9D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