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599677"/>
        <c:axId val="48400847"/>
      </c:barChart>
      <c:catAx>
        <c:axId val="755996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400847"/>
        <c:crosses val="autoZero"/>
        <c:auto val="1"/>
        <c:lblAlgn val="ctr"/>
        <c:lblOffset val="100"/>
        <c:noMultiLvlLbl val="0"/>
      </c:catAx>
      <c:valAx>
        <c:axId val="484008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5996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26C1-F416-4025-9F21-AF0792ECE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DE0A-33B1-4AEA-AA99-976CD56AB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879B-0ED7-49AC-BF06-59329C851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15C8-FFFA-4F77-A7BE-4DA455706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4F6E-58BC-4AA8-ADEF-56305CEE9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344A-D435-43D7-B36B-0D39276B3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1346-FBDC-4404-B6FF-07778A896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FD7F-67D7-41DD-B88D-4A671C7CF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91B2-8F86-43DE-8E18-BF450F5A1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C517-CE04-4E48-883F-57960891E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6BDD-32FB-40BC-85E2-F33F78DDC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611E-0360-49C1-BD95-500F2F0D2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642FD3-D75B-41EA-946E-E3F8E977948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