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83231"/>
        <c:axId val="64119036"/>
      </c:barChart>
      <c:catAx>
        <c:axId val="59983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19036"/>
        <c:crosses val="autoZero"/>
        <c:auto val="1"/>
        <c:lblAlgn val="ctr"/>
        <c:lblOffset val="100"/>
        <c:noMultiLvlLbl val="0"/>
      </c:catAx>
      <c:valAx>
        <c:axId val="641190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83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94CF-2A14-4483-ACD0-057ABA19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D2F-CBCB-4117-9A02-9C9D1319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720-3A7D-44FE-A5F1-A97BE234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58F-C254-49A8-B094-E9793E10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1D97-A13B-40A4-B41B-52D97CBA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6F2-9629-4495-AD9C-6ABF8625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081-7286-49AE-B83A-BA385D7E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6E3-E7AE-4B88-B53A-32C169C2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972-9517-44E8-9CC7-A1BC435B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9DA-160F-4DB6-A7CB-DE8BE94C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6F44-4154-4162-99B2-385E82BD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DB4-E379-45D9-99D2-31CC539C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1E09A-0407-451C-9052-3660DBDEE0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