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58398"/>
        <c:axId val="23298430"/>
      </c:barChart>
      <c:catAx>
        <c:axId val="57658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8430"/>
        <c:crosses val="autoZero"/>
        <c:auto val="1"/>
        <c:lblAlgn val="ctr"/>
        <c:lblOffset val="100"/>
        <c:noMultiLvlLbl val="0"/>
      </c:catAx>
      <c:valAx>
        <c:axId val="23298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58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25C-28E6-4F56-AF2D-F908F22B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805-E556-40EC-9288-2D34DF50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D5A1-82F2-4A12-BE4A-FF8CE9F3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875-AC29-45B2-9122-D3B0D88D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769-2A92-44CF-A1C9-A5EA2615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46D-68BB-473C-BDED-495E1443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4DC-643A-4CCE-BD5B-3504B02C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372-6AE9-43A8-82F1-28B68112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4F0F-327E-44E7-B0C8-51A3A49C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25D-E0B5-48CB-9A89-7DAA7FB4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F91-4F87-4054-B8F8-6E746506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B7A-7EDE-420B-8ACB-B1B9FA5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109F4-8AEF-4E9E-9277-D7A99D0631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