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79913"/>
        <c:axId val="40113707"/>
      </c:barChart>
      <c:catAx>
        <c:axId val="64579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13707"/>
        <c:crosses val="autoZero"/>
        <c:auto val="1"/>
        <c:lblAlgn val="ctr"/>
        <c:lblOffset val="100"/>
        <c:noMultiLvlLbl val="0"/>
      </c:catAx>
      <c:valAx>
        <c:axId val="40113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79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B77-10B8-4E7B-9976-C3785FF3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D7F-56E4-480B-A2D7-A3A30147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5F9-59C5-43D7-88C3-4B11DF2F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687-3D9F-49ED-BB85-85574997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2EF-1EE0-470F-B000-3450DAD1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F30-B70B-4D6B-A5F6-6303D33A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A14-A0AD-42B9-A700-029C550C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4B5-D2E5-4770-9E1E-75DAFB49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583-D02B-4184-9D2A-80A177FA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F2E-B053-46EF-B2AF-1C141E1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A2E-09F4-4D98-889F-D9EC69A4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D7F-AF6C-48A3-BA19-4CB1090B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0E5B2-AB59-4451-8C45-86301CE974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