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55742"/>
        <c:axId val="48875464"/>
      </c:barChart>
      <c:catAx>
        <c:axId val="823557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75464"/>
        <c:crosses val="autoZero"/>
        <c:auto val="1"/>
        <c:lblAlgn val="ctr"/>
        <c:lblOffset val="100"/>
        <c:noMultiLvlLbl val="0"/>
      </c:catAx>
      <c:valAx>
        <c:axId val="488754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557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7A0-880A-4E67-AC62-6177FECD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40DD-F30F-49B6-AD20-E7323591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7E5-0274-4455-A125-DDB9293C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F189-61D4-4B93-9854-06BA84B3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01E-F6A7-4180-AAF2-B97D83EA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F4E8-36D1-4AC1-9A22-E04F7A30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6AC7-99BC-43E5-9A90-41070642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0F4-6179-4076-A9CC-B715C972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D2F-CAD5-4A5C-BBEA-F3157B72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C5F-CAD7-4387-924E-1F0D07AD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0D8-B8D8-486D-AC72-2D5F1E46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FBD-C0C2-4105-AB9D-6B973D73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53C49-A42E-4C5C-A3E0-B2C10CEA88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