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37022"/>
        <c:axId val="92079051"/>
      </c:barChart>
      <c:catAx>
        <c:axId val="53837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9051"/>
        <c:crosses val="autoZero"/>
        <c:auto val="1"/>
        <c:lblAlgn val="ctr"/>
        <c:lblOffset val="100"/>
        <c:noMultiLvlLbl val="0"/>
      </c:catAx>
      <c:valAx>
        <c:axId val="92079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7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A8E-2BE1-410F-B85D-CC0FD151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917-2FE5-49FF-B53D-35C5A79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C29-155F-46F4-A37F-0F9A403F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748-D812-4724-B58F-7990D94A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756-D0C3-4401-932B-C6DCD58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FF5-47AA-42F6-B593-A33F8467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70A-3F6D-491B-900F-32921DE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86A-A006-4BCF-BA72-7BA8928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0D6-A754-476C-8195-9796F72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738-8087-44D4-918F-97E85CF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91A-D5FE-40FE-9D7C-9F526CF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235-BC40-490D-967A-BA821D5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5195D-3877-4635-83A4-9020DED1E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