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64406"/>
        <c:axId val="57137644"/>
      </c:barChart>
      <c:catAx>
        <c:axId val="77364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37644"/>
        <c:crosses val="autoZero"/>
        <c:auto val="1"/>
        <c:lblAlgn val="ctr"/>
        <c:lblOffset val="100"/>
        <c:noMultiLvlLbl val="0"/>
      </c:catAx>
      <c:valAx>
        <c:axId val="5713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64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A8E-8294-4B60-8DE4-6F1AA56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B07-54BE-4AC3-AA0D-D543CD1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E20-0FEF-4555-8FB8-5C1EAA6B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052-11AB-40A8-AFA1-78967DA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F06-7FE3-46CD-AEBB-D3B6C24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D66-3E2C-4DE0-B6F5-470A3611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DF4-C139-4BEA-99E3-6F1A2605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065-1CAB-4C0F-A165-8025C72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ED0-5E4F-492B-ABEE-3D55B545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0BE-C3C8-436D-BC39-E99EA53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76E-0D28-4546-8E56-3516060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152-1F81-4F2D-B70F-7962415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8EA26-C6C7-41BA-B182-25D9383FA5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