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88405"/>
        <c:axId val="48002519"/>
      </c:barChart>
      <c:catAx>
        <c:axId val="364884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02519"/>
        <c:crosses val="autoZero"/>
        <c:auto val="1"/>
        <c:lblAlgn val="ctr"/>
        <c:lblOffset val="100"/>
        <c:noMultiLvlLbl val="0"/>
      </c:catAx>
      <c:valAx>
        <c:axId val="480025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884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F40-55B0-4B36-A39D-7B51D2FD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20B-3F16-4B10-826A-90F052CB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C133-7C4C-4DB0-9D62-C6317414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EDE-5D7B-4CFD-A385-D4951737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F578-D4EA-46DE-A0B9-57F61C69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1FD9-3811-47C6-A97F-9A136C26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A4D4-B4C8-469F-962C-27908D5F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DE9-C35C-4DA6-9831-FA5FD178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4FB-A3A3-40AE-9DF4-E4C3E829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0FE-9356-4DB1-A156-52B412B4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B6F-3E32-4F2D-B180-E2B251A3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CC0-E6E0-4FD5-8970-EF2204B2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3FDCD-8C06-4ED5-8628-A9A49848FB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