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86222"/>
        <c:axId val="39861717"/>
      </c:barChart>
      <c:catAx>
        <c:axId val="67986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1717"/>
        <c:crosses val="autoZero"/>
        <c:auto val="1"/>
        <c:lblAlgn val="ctr"/>
        <c:lblOffset val="100"/>
        <c:noMultiLvlLbl val="0"/>
      </c:catAx>
      <c:valAx>
        <c:axId val="39861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86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1D2-C914-42C4-90ED-94472A7C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C67-5CB6-4FDE-986F-6DB9FF3C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1EF-09BE-4B27-996A-E8FEB216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463-CA3F-4E97-957E-67417AAE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15E-1B1D-46D0-8AF8-240AD453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828-BAF0-4699-A905-88910215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DAB-A2A3-4546-B877-15CB114D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041-94F6-462B-BBFA-54298ED2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65D-B3E7-4B56-9D40-D75089E4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413-E1B5-41D0-881E-18936EF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559-BB69-4206-901D-0B94D633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263-6576-437F-BA6E-8BE77C35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86A1A-CDC1-480C-AF22-24BC7716B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