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62981"/>
        <c:axId val="31378589"/>
      </c:barChart>
      <c:catAx>
        <c:axId val="25162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78589"/>
        <c:crosses val="autoZero"/>
        <c:auto val="1"/>
        <c:lblAlgn val="ctr"/>
        <c:lblOffset val="100"/>
        <c:noMultiLvlLbl val="0"/>
      </c:catAx>
      <c:valAx>
        <c:axId val="31378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62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002-9E58-42FB-9E84-5D023C66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57C-68D5-428D-992B-8DCF7B9A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515-8F9F-40C2-8007-C1B08E00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558-3861-44BC-92A0-1858051F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8DC-701B-412D-A8BF-A50501C1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24C-1EC9-408A-B3DF-56C4B726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2AA-5CC4-4E2A-A1E7-C5FD932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CBE-05F1-4DD6-95C8-A617FB1A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9B2-AFFE-44D3-81F7-5E2DC316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3B3-024C-48B2-B1D8-93D6A3C8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A29-CDC6-426F-A8FD-7CAA41FD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187-F29E-406F-9451-D9EEFFD7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26588-C8F8-4399-8B04-34DB483EEF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